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EBE-6109-4A64-A833-A60F3AC3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01D-BF47-4548-9A96-2C9E01D1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08C-B47B-429B-93AE-6FCFEFA6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BEC-68CF-4288-9E9D-2301908D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D92-2C2E-4B18-A284-E259DE2A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F746-7B0A-4BFE-85E1-6636FD3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8C68-5C9A-4E26-9414-1838A208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A9E-DB9F-4D7C-A857-D95763F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7E8-7692-4A85-B7A7-5B6DEC2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DA9-5F1C-4C42-A576-52DE09F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98E8-0A7A-49CB-8EB1-9ADEBB4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F14-236D-4A2D-938F-EE63A11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6198-9053-4762-BAA9-2C46D03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FF8-99D9-4A85-BC48-1BEFBA85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E114-9841-42BD-B7B3-8684D93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130-A71A-47AF-A584-430E40D4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DE6-F437-40C1-85DE-D1544EE6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B51-1DB9-4FE9-A720-0C53240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6B9-06E0-462A-B8BC-8B98C838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ADA-B35A-48EA-AA64-C993AE17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D0B-4FED-47C2-884F-D2F55B2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7D3-4F41-4E89-9D80-E42D57E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737-115D-4DFF-936B-88B2C89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1C0-F0E7-49AD-86FE-660B29A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5B5-9CC0-49B4-98B7-B090B29180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E700-E106-45C9-8C1B-D23FCA62DC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lson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ocialworkers.org/pubs/code/default.asp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Ethics and Social Responsibility in Marketing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lson Take C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opening Vignette “At Molson, There is more brewing than beer” raises some interesting and contraversial points as to what a business’ roles is in our socie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ajor question becomes: “Why would a business do things like Molson is doing if it has no direct impact on sales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molson.co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thics are the moral principles and values that govern the actions and decisions of an individual gro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thics are not Laws.  Laws are enforceable by the courts whereas ethics are no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al Behavi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is Ethics so talked about in Business n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is increased pressure on business to make decisions in a society characterized by a diverse value syste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siness decision are judged publicly by groups that have a diverse values and interes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blic expectations have rise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siness conduct may be getting more unethica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thical Behaviour is molded by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cietal fo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values, ideas and attitudes of societ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siness/Industry cultu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at is acceptable in the industry in which the business opera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ational culture &amp; expec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sideration internal to the business – the written and unwritten rules of how a business opera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written Code of Ethics usually outlines the expected level of ethical standard in an organization. (eg. </a:t>
            </a: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socialworkers.org/pubs/code/default.asp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wo major issu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dustrial espionage is spying on other business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ibes are payments made to ensure a deal is mad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als vs. the Jo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y individuals are caught between conflicting goals o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) Moral Idealism – a personal philosophy of what is right and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)Utilitarianism – providing the greatest good for the most nu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al Responsi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ations are part of society and are accountable to society for their ac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) a responsibility to make a profit so as to remain in business and contribute to society by providing jobs, services, et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) Stakeholder responsibility - to those directly affected by the busines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) Societal responsibility – to those in greater socie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al Aud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ssessment to ensure that a business is being socially responsible to stakeholders and socie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2:46:54Z</dcterms:created>
  <dc:creator>Paul Tilley</dc:creator>
  <dc:description/>
  <dc:language>en-US</dc:language>
  <cp:lastModifiedBy>Paul Tilley</cp:lastModifiedBy>
  <dcterms:modified xsi:type="dcterms:W3CDTF">2003-09-26T17:45:36Z</dcterms:modified>
  <cp:revision>3</cp:revision>
  <dc:subject/>
  <dc:title>Ethics and Social Responsibility in Marketing</dc:title>
</cp:coreProperties>
</file>